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4AE91-E5C5-46E5-95CA-BB6FF536A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2FDF0-CEEC-45C1-9619-19FC5A9EC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DFECF-D39C-4E18-B852-1D2E25D94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154B0-893F-4E9D-B853-24EE7A603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DF292-2B86-4A27-87D7-C54D8A6F9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D5C96-BBFC-4581-9CD4-53CC8D774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E2F6B-AEF9-4377-8834-6DD7A786D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C9C34-EBBA-4A6A-859E-217F7E41C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27CDB-D886-424A-954D-CF9D08D84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7601E-8420-4970-B89F-FCB3E65FF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4314B-1E75-46D9-88AE-65403343E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22ACF-FFF8-42DE-82BE-AC61DEE5E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A86FA-51E8-4CAE-B232-CAD62960D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6511F-8369-4AB4-A02B-917546789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011FA-1D91-4999-942B-10AFFBAC1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7E036-EED2-4D56-A002-983949E87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3A245-5C4D-46B4-ACAE-29AE45E71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5B236-7E37-457B-98F8-B5807E218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EC365-AF3A-48C1-8FF1-33DD0DFFB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4343C-D671-404C-9537-53D3BED29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D412C-8175-46E1-AF23-5C2DF8DE9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38D48-BD4B-4DD3-83FD-DD94FD9E0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AD1FC-67F7-4F27-A1C8-992FFF323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24209-22EE-4484-9F00-9C3F00FDB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1CEA9-857D-4237-953B-3A1FE239751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FE089-BE0A-4C82-8D82-7E7286B9EAA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Politic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362320" y="3429000"/>
            <a:ext cx="6400800" cy="14479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Let’s get Fiscal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What is Democracy?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the Greeks, means “Rule by the people”.  Democracy gives citizens a voice in their government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What is the </a:t>
            </a:r>
            <a:r>
              <a:rPr b="0" i="1" lang="en-US" sz="3600" spc="-1" strike="noStrike">
                <a:solidFill>
                  <a:srgbClr val="8c0039"/>
                </a:solidFill>
                <a:latin typeface="Arial"/>
              </a:rPr>
              <a:t>job </a:t>
            </a: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of the government?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ciety is complex….think of all the things that make up the way we li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r government is a system of organization and management for these thing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c0039"/>
                </a:solidFill>
                <a:latin typeface="Arial"/>
              </a:rPr>
              <a:t>There are three levels of Canadian government:</a:t>
            </a:r>
            <a:br>
              <a:rPr sz="3200"/>
            </a:b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unicipal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– Based in towns, run by councillo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vinci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Based in Provincial Capitals and run by Premi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eder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Based in Country Capital (Ottawa) and run by Prime Minis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But who picks up my garbage?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level of government has different responsibilities.  Which of the three levels of government is in charge of the following thing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38280" y="380520"/>
            <a:ext cx="64008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e Prot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ilding Perm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nicipal Gover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tural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eet Clea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u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spita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Assignmen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your own words, come up with definitions for the follow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d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itu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resentative democra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3T13:53:17Z</dcterms:created>
  <dc:creator>Administrator</dc:creator>
  <dc:description/>
  <dc:language>en-US</dc:language>
  <cp:lastModifiedBy>Administrator</cp:lastModifiedBy>
  <dcterms:modified xsi:type="dcterms:W3CDTF">2007-02-13T16:41:18Z</dcterms:modified>
  <cp:revision>4</cp:revision>
  <dc:subject/>
  <dc:title>Politics</dc:title>
</cp:coreProperties>
</file>